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ED3B-6108-475A-A20F-758B0817C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0DEC-95DC-4ACB-8CD9-B9EC5144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8794-E576-46DE-B652-6C59AED7C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7928-BE45-457C-A28A-B69E1BB91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46F1-4100-4110-ACBC-56DEEABA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1EEE-D4D0-4565-9D03-E6F0EB27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1559-BEF0-43E1-8C8B-9F53B16D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E406-A961-4333-BC79-16464CC8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B95A-1DD9-4504-BF25-1FC8F00B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C739-F919-40A5-989B-D72640AA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8C8E-EF73-4674-AA5E-EA15F4BD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42BD-192C-4C9F-872F-20C0500A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E25C-FBC8-40BA-8CEA-2D1E6734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A99B-F046-4BFF-A799-1F554F95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EF18-7FBA-4A51-B37F-3A7B8BB4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888C-56A1-4FB4-BFEA-E9A2BD47E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6BE1-7134-4383-A680-40E20829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375D-1506-4F45-80F5-E487E216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D619-442C-4E34-8A2C-4647DE15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7791-C8B0-4314-8E28-A25858F9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C056-FFED-407E-9735-5D966809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8E71-BA5B-488D-A95B-BF8EEBAE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A851-26C9-4446-9855-85049CEB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2E9F-5873-49EF-A525-CFE6FB3F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7A7E-5476-421B-A9DF-FCAD9C756DE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0C88-98E6-4409-BAF9-09FC3E9E90A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280" y="1412640"/>
            <a:ext cx="81471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8a500"/>
                </a:solidFill>
                <a:latin typeface="Times New Roman"/>
              </a:rPr>
              <a:t>ФИЗИКА</a:t>
            </a:r>
            <a:br>
              <a:rPr sz="6000"/>
            </a:br>
            <a:r>
              <a:rPr b="1" lang="en-US" sz="6000" spc="-1" strike="noStrike">
                <a:solidFill>
                  <a:srgbClr val="f8a500"/>
                </a:solidFill>
                <a:latin typeface="Times New Roman"/>
              </a:rPr>
              <a:t>10 класс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515736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imes New Roman"/>
              </a:rPr>
              <a:t>Учебник: </a:t>
            </a: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.А. Тихомирова, Б.М. Яворский. Физика. 10 класс.М. Мнемозина, 2010 г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a500"/>
                </a:solidFill>
                <a:latin typeface="Arial"/>
              </a:rPr>
              <a:t>План урока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иды энер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кон сохранения энер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меры решения зада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5"/>
          <p:cNvSpPr/>
          <p:nvPr/>
        </p:nvSpPr>
        <p:spPr>
          <a:xfrm>
            <a:off x="684360" y="765000"/>
            <a:ext cx="7272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Если тело или система тел могут совершить работу, то говорят, что они обладают энергией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1276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a500"/>
                </a:solidFill>
                <a:latin typeface="Arial"/>
              </a:rPr>
              <a:t>ЭНЕРГИЯ</a:t>
            </a:r>
            <a:r>
              <a:rPr b="0" lang="en-US" sz="4000" spc="-1" strike="noStrike">
                <a:solidFill>
                  <a:srgbClr val="f8a5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8a500"/>
                </a:solidFill>
                <a:latin typeface="Arial"/>
              </a:rPr>
              <a:t>ОБОЗНАЧАЕТСЯ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3348000" y="2205000"/>
            <a:ext cx="33116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3995640" y="198900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bbd71"/>
                </a:solidFill>
                <a:latin typeface="Britannic Bold"/>
              </a:rPr>
              <a:t>E</a:t>
            </a:r>
            <a:r>
              <a:rPr b="0" lang="en-US" sz="8000" spc="-1" strike="noStrike">
                <a:solidFill>
                  <a:srgbClr val="ffffff"/>
                </a:solidFill>
                <a:latin typeface="Britannic Bold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971640" y="378936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a500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f8a500"/>
                </a:solidFill>
                <a:latin typeface="Comic Sans MS"/>
              </a:rPr>
              <a:t>ЭНЕРГИЯ</a:t>
            </a:r>
            <a:r>
              <a:rPr b="0" lang="en-US" sz="4000" spc="-1" strike="noStrike">
                <a:solidFill>
                  <a:srgbClr val="f8a5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8a500"/>
                </a:solidFill>
                <a:latin typeface="Comic Sans MS"/>
              </a:rPr>
              <a:t>ИЗМЕРЯЕТСЯ 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3564000" y="4724280"/>
            <a:ext cx="26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dbbd71"/>
                </a:solidFill>
                <a:latin typeface="Britannic Bold"/>
              </a:rPr>
              <a:t>Дж</a:t>
            </a:r>
            <a:endParaRPr b="0" lang="en-US" sz="8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Управляющая кнопка: домой 1"/>
          <p:cNvSpPr/>
          <p:nvPr/>
        </p:nvSpPr>
        <p:spPr>
          <a:xfrm>
            <a:off x="8317080" y="6237360"/>
            <a:ext cx="576000" cy="62064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20640"/>
              <a:gd name="textAreaBottom" fmla="*/ 583560 h 620640"/>
            </a:gdLst>
            <a:ahLst/>
            <a:rect l="textAreaLeft" t="textAreaTop" r="textAreaRight" b="textAreaBottom"/>
            <a:pathLst>
              <a:path w="21600" h="23273">
                <a:moveTo>
                  <a:pt x="0" y="0"/>
                </a:moveTo>
                <a:lnTo>
                  <a:pt x="21600" y="0"/>
                </a:lnTo>
                <a:lnTo>
                  <a:pt x="21600" y="23273"/>
                </a:lnTo>
                <a:lnTo>
                  <a:pt x="0" y="23273"/>
                </a:lnTo>
                <a:close/>
              </a:path>
              <a:path fill="lightenLess" w="21600" h="232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73">
                <a:moveTo>
                  <a:pt x="21600" y="0"/>
                </a:moveTo>
                <a:lnTo>
                  <a:pt x="21600" y="23273"/>
                </a:lnTo>
                <a:lnTo>
                  <a:pt x="20200" y="21873"/>
                </a:lnTo>
                <a:lnTo>
                  <a:pt x="20200" y="1400"/>
                </a:lnTo>
                <a:close/>
              </a:path>
              <a:path fill="darkenLess" w="21600" h="23273">
                <a:moveTo>
                  <a:pt x="21600" y="23273"/>
                </a:moveTo>
                <a:lnTo>
                  <a:pt x="0" y="23273"/>
                </a:lnTo>
                <a:lnTo>
                  <a:pt x="1400" y="21873"/>
                </a:lnTo>
                <a:lnTo>
                  <a:pt x="20200" y="21873"/>
                </a:lnTo>
                <a:close/>
              </a:path>
              <a:path fill="lighten" w="21600" h="23273">
                <a:moveTo>
                  <a:pt x="0" y="232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73"/>
                </a:lnTo>
                <a:close/>
              </a:path>
              <a:path fill="darken" w="21600" h="23273">
                <a:moveTo>
                  <a:pt x="10800" y="4674"/>
                </a:moveTo>
                <a:lnTo>
                  <a:pt x="13376" y="7285"/>
                </a:lnTo>
                <a:lnTo>
                  <a:pt x="13376" y="5544"/>
                </a:lnTo>
                <a:lnTo>
                  <a:pt x="15152" y="5544"/>
                </a:lnTo>
                <a:lnTo>
                  <a:pt x="15152" y="9060"/>
                </a:lnTo>
                <a:lnTo>
                  <a:pt x="17763" y="11636"/>
                </a:lnTo>
                <a:lnTo>
                  <a:pt x="16109" y="11636"/>
                </a:lnTo>
                <a:lnTo>
                  <a:pt x="16109" y="18826"/>
                </a:lnTo>
                <a:lnTo>
                  <a:pt x="5491" y="18826"/>
                </a:lnTo>
                <a:lnTo>
                  <a:pt x="5491" y="11636"/>
                </a:lnTo>
                <a:lnTo>
                  <a:pt x="3837" y="11636"/>
                </a:lnTo>
                <a:close/>
              </a:path>
              <a:path fill="darkenLess" w="21600" h="23273">
                <a:moveTo>
                  <a:pt x="13376" y="7285"/>
                </a:moveTo>
                <a:lnTo>
                  <a:pt x="13376" y="5544"/>
                </a:lnTo>
                <a:lnTo>
                  <a:pt x="15152" y="5544"/>
                </a:lnTo>
                <a:lnTo>
                  <a:pt x="15152" y="9060"/>
                </a:lnTo>
                <a:close/>
              </a:path>
              <a:path fill="darkenLess" w="21600" h="23273">
                <a:moveTo>
                  <a:pt x="9877" y="15135"/>
                </a:moveTo>
                <a:lnTo>
                  <a:pt x="11723" y="15135"/>
                </a:lnTo>
                <a:lnTo>
                  <a:pt x="11723" y="18826"/>
                </a:lnTo>
                <a:lnTo>
                  <a:pt x="16109" y="18826"/>
                </a:lnTo>
                <a:lnTo>
                  <a:pt x="16109" y="11636"/>
                </a:lnTo>
                <a:lnTo>
                  <a:pt x="5491" y="11636"/>
                </a:lnTo>
                <a:lnTo>
                  <a:pt x="5491" y="18826"/>
                </a:lnTo>
                <a:lnTo>
                  <a:pt x="9877" y="18826"/>
                </a:lnTo>
                <a:close/>
              </a:path>
            </a:pathLst>
          </a:custGeom>
          <a:solidFill>
            <a:srgbClr val="f8a500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mph" presetID="2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50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46" dur="50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47" dur="50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5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500" autoRev="1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59" dur="500" autoRev="1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60" dur="500" autoRev="1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a500"/>
                </a:solidFill>
                <a:latin typeface="Arial"/>
              </a:rPr>
              <a:t>Кинетическая энергия-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179280" y="1700280"/>
            <a:ext cx="83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это энергия движущегося тела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12"/>
              <p:cNvSpPr txBox="1"/>
              <p:nvPr/>
            </p:nvSpPr>
            <p:spPr>
              <a:xfrm>
                <a:off x="1917720" y="2048040"/>
                <a:ext cx="5235480" cy="37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1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a500"/>
                </a:solidFill>
                <a:latin typeface="Arial"/>
              </a:rPr>
              <a:t>Потенциальная энергия-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395280" y="177336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это энергия взаимодействия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6"/>
              <p:cNvSpPr txBox="1"/>
              <p:nvPr/>
            </p:nvSpPr>
            <p:spPr>
              <a:xfrm>
                <a:off x="1379520" y="3494160"/>
                <a:ext cx="6391440" cy="21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488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a500"/>
                </a:solidFill>
                <a:latin typeface="Arial"/>
              </a:rPr>
              <a:t>Потенциальная энергия упругой деформации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5"/>
              <p:cNvSpPr txBox="1"/>
              <p:nvPr/>
            </p:nvSpPr>
            <p:spPr>
              <a:xfrm>
                <a:off x="2149560" y="1690560"/>
                <a:ext cx="4511520" cy="370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90" name="пружина.avi" descr=""/>
          <p:cNvPicPr/>
          <p:nvPr/>
        </p:nvPicPr>
        <p:blipFill>
          <a:blip r:embed="rId1"/>
          <a:stretch/>
        </p:blipFill>
        <p:spPr>
          <a:xfrm>
            <a:off x="2771640" y="2060640"/>
            <a:ext cx="3353040" cy="2743200"/>
          </a:xfrm>
          <a:prstGeom prst="rect">
            <a:avLst/>
          </a:prstGeom>
          <a:ln w="0">
            <a:noFill/>
          </a:ln>
        </p:spPr>
      </p:pic>
      <p:sp>
        <p:nvSpPr>
          <p:cNvPr id="191" name="Управляющая кнопка: домой 1"/>
          <p:cNvSpPr/>
          <p:nvPr/>
        </p:nvSpPr>
        <p:spPr>
          <a:xfrm>
            <a:off x="8317080" y="6165720"/>
            <a:ext cx="576000" cy="69228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5958">
                <a:moveTo>
                  <a:pt x="0" y="0"/>
                </a:moveTo>
                <a:lnTo>
                  <a:pt x="21600" y="0"/>
                </a:lnTo>
                <a:lnTo>
                  <a:pt x="21600" y="25958"/>
                </a:lnTo>
                <a:lnTo>
                  <a:pt x="0" y="25958"/>
                </a:lnTo>
                <a:close/>
              </a:path>
              <a:path fill="lightenLess" w="21600" h="259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58">
                <a:moveTo>
                  <a:pt x="21600" y="0"/>
                </a:moveTo>
                <a:lnTo>
                  <a:pt x="21600" y="25958"/>
                </a:lnTo>
                <a:lnTo>
                  <a:pt x="20200" y="24558"/>
                </a:lnTo>
                <a:lnTo>
                  <a:pt x="20200" y="1400"/>
                </a:lnTo>
                <a:close/>
              </a:path>
              <a:path fill="darkenLess" w="21600" h="25958">
                <a:moveTo>
                  <a:pt x="21600" y="25958"/>
                </a:moveTo>
                <a:lnTo>
                  <a:pt x="0" y="25958"/>
                </a:lnTo>
                <a:lnTo>
                  <a:pt x="1400" y="24558"/>
                </a:lnTo>
                <a:lnTo>
                  <a:pt x="20200" y="24558"/>
                </a:lnTo>
                <a:close/>
              </a:path>
              <a:path fill="lighten" w="21600" h="25958">
                <a:moveTo>
                  <a:pt x="0" y="259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58"/>
                </a:lnTo>
                <a:close/>
              </a:path>
              <a:path fill="darken" w="21600" h="25958">
                <a:moveTo>
                  <a:pt x="10800" y="6016"/>
                </a:moveTo>
                <a:lnTo>
                  <a:pt x="13376" y="8627"/>
                </a:lnTo>
                <a:lnTo>
                  <a:pt x="13376" y="6886"/>
                </a:lnTo>
                <a:lnTo>
                  <a:pt x="15152" y="6886"/>
                </a:lnTo>
                <a:lnTo>
                  <a:pt x="15152" y="10403"/>
                </a:lnTo>
                <a:lnTo>
                  <a:pt x="17763" y="12979"/>
                </a:lnTo>
                <a:lnTo>
                  <a:pt x="16109" y="12979"/>
                </a:lnTo>
                <a:lnTo>
                  <a:pt x="16109" y="20168"/>
                </a:lnTo>
                <a:lnTo>
                  <a:pt x="5491" y="20168"/>
                </a:lnTo>
                <a:lnTo>
                  <a:pt x="5491" y="12979"/>
                </a:lnTo>
                <a:lnTo>
                  <a:pt x="3837" y="12979"/>
                </a:lnTo>
                <a:close/>
              </a:path>
              <a:path fill="darkenLess" w="21600" h="25958">
                <a:moveTo>
                  <a:pt x="13376" y="8627"/>
                </a:moveTo>
                <a:lnTo>
                  <a:pt x="13376" y="6886"/>
                </a:lnTo>
                <a:lnTo>
                  <a:pt x="15152" y="6886"/>
                </a:lnTo>
                <a:lnTo>
                  <a:pt x="15152" y="10403"/>
                </a:lnTo>
                <a:close/>
              </a:path>
              <a:path fill="darkenLess" w="21600" h="25958">
                <a:moveTo>
                  <a:pt x="9877" y="16478"/>
                </a:moveTo>
                <a:lnTo>
                  <a:pt x="11723" y="16478"/>
                </a:lnTo>
                <a:lnTo>
                  <a:pt x="11723" y="20168"/>
                </a:lnTo>
                <a:lnTo>
                  <a:pt x="16109" y="20168"/>
                </a:lnTo>
                <a:lnTo>
                  <a:pt x="16109" y="12979"/>
                </a:lnTo>
                <a:lnTo>
                  <a:pt x="5491" y="12979"/>
                </a:lnTo>
                <a:lnTo>
                  <a:pt x="5491" y="20168"/>
                </a:lnTo>
                <a:lnTo>
                  <a:pt x="9877" y="20168"/>
                </a:lnTo>
                <a:close/>
              </a:path>
            </a:pathLst>
          </a:custGeom>
          <a:solidFill>
            <a:srgbClr val="f8a500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a500"/>
                </a:solidFill>
                <a:latin typeface="Arial"/>
              </a:rPr>
              <a:t>Закон сохранени</a:t>
            </a:r>
            <a:r>
              <a:rPr b="0" lang="en-US" sz="4400" spc="-1" strike="noStrike">
                <a:solidFill>
                  <a:srgbClr val="f8a500"/>
                </a:solidFill>
                <a:latin typeface="Arial"/>
              </a:rPr>
              <a:t>я </a:t>
            </a:r>
            <a:r>
              <a:rPr b="1" lang="en-US" sz="4400" spc="-1" strike="noStrike">
                <a:solidFill>
                  <a:srgbClr val="f8a500"/>
                </a:solidFill>
                <a:latin typeface="Arial"/>
              </a:rPr>
              <a:t>энергии</a:t>
            </a:r>
            <a:r>
              <a:rPr b="0" lang="en-US" sz="4400" spc="-1" strike="noStrike">
                <a:solidFill>
                  <a:srgbClr val="f8a5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250920" y="1989000"/>
            <a:ext cx="806616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В замкнутой системе, в которой действуют консервативные силы, энергия ни от куда не возникает и ни куда не исчезает, а лишь 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переходит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 из одного вида в другой.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a500"/>
                </a:solidFill>
                <a:latin typeface="Times New Roman"/>
              </a:rPr>
              <a:t>Ek1 + Ep1 = Ek2 + Ep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Управляющая кнопка: домой 1"/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f8a500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1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8a500"/>
                </a:solidFill>
                <a:latin typeface="Times New Roman"/>
              </a:rPr>
              <a:t>Маятник Максвелл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4897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5034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5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падение.avi" descr=""/>
          <p:cNvPicPr/>
          <p:nvPr/>
        </p:nvPicPr>
        <p:blipFill>
          <a:blip r:embed="rId1"/>
          <a:stretch/>
        </p:blipFill>
        <p:spPr>
          <a:xfrm>
            <a:off x="1143000" y="357120"/>
            <a:ext cx="68580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28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1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250920" y="836640"/>
            <a:ext cx="7850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Задача № 1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С какой начальной скоростью надо бросить вниз мяч с высоты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, чтобы он подпрыгнул на высоту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2h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? Считать удар абсолютно упругим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900000" y="3068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Дано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1042920" y="350028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900000" y="4221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Найти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874800" y="4653000"/>
                <a:ext cx="15620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Line 9"/>
          <p:cNvSpPr/>
          <p:nvPr/>
        </p:nvSpPr>
        <p:spPr>
          <a:xfrm>
            <a:off x="2411280" y="2997360"/>
            <a:ext cx="0" cy="2952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Line 10"/>
          <p:cNvSpPr/>
          <p:nvPr/>
        </p:nvSpPr>
        <p:spPr>
          <a:xfrm>
            <a:off x="611280" y="4149720"/>
            <a:ext cx="1944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3492360" y="2924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Line 12"/>
          <p:cNvSpPr/>
          <p:nvPr/>
        </p:nvSpPr>
        <p:spPr>
          <a:xfrm>
            <a:off x="3059280" y="6308640"/>
            <a:ext cx="5257800" cy="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Line 13"/>
          <p:cNvSpPr/>
          <p:nvPr/>
        </p:nvSpPr>
        <p:spPr>
          <a:xfrm>
            <a:off x="3132000" y="4869000"/>
            <a:ext cx="863640" cy="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6732720" y="3357720"/>
            <a:ext cx="1511280" cy="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Line 16"/>
          <p:cNvSpPr/>
          <p:nvPr/>
        </p:nvSpPr>
        <p:spPr>
          <a:xfrm>
            <a:off x="3995640" y="4869000"/>
            <a:ext cx="0" cy="143964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Line 17"/>
          <p:cNvSpPr/>
          <p:nvPr/>
        </p:nvSpPr>
        <p:spPr>
          <a:xfrm>
            <a:off x="6732720" y="3357720"/>
            <a:ext cx="0" cy="295092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Text Box 18"/>
          <p:cNvSpPr/>
          <p:nvPr/>
        </p:nvSpPr>
        <p:spPr>
          <a:xfrm>
            <a:off x="3492360" y="5300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Text Box 19"/>
          <p:cNvSpPr/>
          <p:nvPr/>
        </p:nvSpPr>
        <p:spPr>
          <a:xfrm>
            <a:off x="6732720" y="4653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Oval 20"/>
          <p:cNvSpPr/>
          <p:nvPr/>
        </p:nvSpPr>
        <p:spPr>
          <a:xfrm>
            <a:off x="4140360" y="4653000"/>
            <a:ext cx="431640" cy="43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Oval 21"/>
          <p:cNvSpPr/>
          <p:nvPr/>
        </p:nvSpPr>
        <p:spPr>
          <a:xfrm>
            <a:off x="5003640" y="5877000"/>
            <a:ext cx="432000" cy="43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Oval 22"/>
          <p:cNvSpPr/>
          <p:nvPr/>
        </p:nvSpPr>
        <p:spPr>
          <a:xfrm>
            <a:off x="6156360" y="3213000"/>
            <a:ext cx="431640" cy="4320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Text Box 23"/>
          <p:cNvSpPr/>
          <p:nvPr/>
        </p:nvSpPr>
        <p:spPr>
          <a:xfrm>
            <a:off x="3635280" y="4221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Епо+Еко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Text Box 24"/>
          <p:cNvSpPr/>
          <p:nvPr/>
        </p:nvSpPr>
        <p:spPr>
          <a:xfrm>
            <a:off x="5651640" y="321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Еп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Text Box 25"/>
          <p:cNvSpPr/>
          <p:nvPr/>
        </p:nvSpPr>
        <p:spPr>
          <a:xfrm>
            <a:off x="5508720" y="57340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Ек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8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a500"/>
                </a:solidFill>
                <a:latin typeface="Times New Roman"/>
              </a:rPr>
              <a:t>Вопрос 1</a:t>
            </a:r>
            <a:br>
              <a:rPr sz="4400"/>
            </a:br>
            <a:r>
              <a:rPr b="1" lang="en-US" sz="4400" spc="-1" strike="noStrike">
                <a:solidFill>
                  <a:srgbClr val="e12c19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Как называется единица работы в СИ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4"/>
          <p:cNvSpPr/>
          <p:nvPr/>
        </p:nvSpPr>
        <p:spPr>
          <a:xfrm>
            <a:off x="1476360" y="765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Епо +Еко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Line 5"/>
          <p:cNvSpPr/>
          <p:nvPr/>
        </p:nvSpPr>
        <p:spPr>
          <a:xfrm>
            <a:off x="3995640" y="105264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4643280" y="76500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Ек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5580000" y="1052640"/>
            <a:ext cx="432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6084720" y="76500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Еп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10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11"/>
              <p:cNvSpPr txBox="1"/>
              <p:nvPr/>
            </p:nvSpPr>
            <p:spPr>
              <a:xfrm>
                <a:off x="326880" y="1700280"/>
                <a:ext cx="8345520" cy="14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gh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m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2</m:t>
                    </m:r>
                    <m:r>
                      <m:t xml:space="preserve">h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12"/>
              <p:cNvSpPr txBox="1"/>
              <p:nvPr/>
            </p:nvSpPr>
            <p:spPr>
              <a:xfrm>
                <a:off x="1496880" y="3219480"/>
                <a:ext cx="557388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7" name="Line 13"/>
          <p:cNvSpPr/>
          <p:nvPr/>
        </p:nvSpPr>
        <p:spPr>
          <a:xfrm>
            <a:off x="4427640" y="4508640"/>
            <a:ext cx="2665440" cy="0"/>
          </a:xfrm>
          <a:prstGeom prst="line">
            <a:avLst/>
          </a:prstGeom>
          <a:ln w="38160">
            <a:solidFill>
              <a:srgbClr val="dbbd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Управляющая кнопка: возврат 1"/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7493"/>
                </a:moveTo>
                <a:lnTo>
                  <a:pt x="8409" y="7493"/>
                </a:lnTo>
                <a:lnTo>
                  <a:pt x="8409" y="12828"/>
                </a:lnTo>
                <a:cubicBezTo>
                  <a:pt x="8409" y="13751"/>
                  <a:pt x="9210" y="14482"/>
                  <a:pt x="10246" y="14482"/>
                </a:cubicBezTo>
                <a:lnTo>
                  <a:pt x="11908" y="14482"/>
                </a:lnTo>
                <a:cubicBezTo>
                  <a:pt x="12944" y="14482"/>
                  <a:pt x="13745" y="13751"/>
                  <a:pt x="13745" y="12828"/>
                </a:cubicBezTo>
                <a:lnTo>
                  <a:pt x="13745" y="7493"/>
                </a:lnTo>
                <a:lnTo>
                  <a:pt x="11908" y="7493"/>
                </a:lnTo>
                <a:lnTo>
                  <a:pt x="15416" y="3985"/>
                </a:lnTo>
                <a:lnTo>
                  <a:pt x="19089" y="7493"/>
                </a:lnTo>
                <a:lnTo>
                  <a:pt x="17252" y="7493"/>
                </a:lnTo>
                <a:lnTo>
                  <a:pt x="17252" y="12828"/>
                </a:lnTo>
                <a:cubicBezTo>
                  <a:pt x="17252" y="15596"/>
                  <a:pt x="14676" y="18155"/>
                  <a:pt x="11908" y="18155"/>
                </a:cubicBezTo>
                <a:lnTo>
                  <a:pt x="10246" y="18155"/>
                </a:lnTo>
                <a:cubicBezTo>
                  <a:pt x="7478" y="18155"/>
                  <a:pt x="4902" y="15596"/>
                  <a:pt x="4902" y="12828"/>
                </a:cubicBezTo>
                <a:close/>
              </a:path>
            </a:pathLst>
          </a:custGeom>
          <a:solidFill>
            <a:srgbClr val="915121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7326 0 E">
                                      <p:cBhvr>
                                        <p:cTn id="229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трение и Е.avi" descr=""/>
          <p:cNvPicPr/>
          <p:nvPr/>
        </p:nvPicPr>
        <p:blipFill>
          <a:blip r:embed="rId1"/>
          <a:stretch/>
        </p:blipFill>
        <p:spPr>
          <a:xfrm>
            <a:off x="1763640" y="981000"/>
            <a:ext cx="581040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246" nodeType="clickEffect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9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250920" y="765000"/>
            <a:ext cx="78501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Задача №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Санки с седоком общей массой 100 кг съезжают с горы высотой 8 м и длиной 100 м.Какова средняя сила сопротивления движению, если в конце горы сани достигли скорости 10м/с, начальная скорость равна 0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2916360" y="4221000"/>
            <a:ext cx="4608360" cy="2087640"/>
          </a:xfrm>
          <a:prstGeom prst="rtTriangl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Rectangle 6"/>
          <p:cNvSpPr/>
          <p:nvPr/>
        </p:nvSpPr>
        <p:spPr>
          <a:xfrm rot="1420200">
            <a:off x="2987280" y="3933360"/>
            <a:ext cx="790560" cy="5050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Rectangle 7"/>
          <p:cNvSpPr/>
          <p:nvPr/>
        </p:nvSpPr>
        <p:spPr>
          <a:xfrm rot="1420200">
            <a:off x="6732720" y="5589360"/>
            <a:ext cx="790560" cy="5047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34000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4572000" y="5229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3348000" y="3213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Епо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7093080" y="501336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6948360" y="4869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Ек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4"/>
          <p:cNvSpPr/>
          <p:nvPr/>
        </p:nvSpPr>
        <p:spPr>
          <a:xfrm>
            <a:off x="395280" y="620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Дано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395280" y="1052640"/>
            <a:ext cx="1655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=100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кг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=8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м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=100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м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6"/>
              <p:cNvSpPr txBox="1"/>
              <p:nvPr/>
            </p:nvSpPr>
            <p:spPr>
              <a:xfrm>
                <a:off x="378000" y="2565360"/>
                <a:ext cx="19810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fPr>
                        <m:type m:val="lin"/>
                      </m:fPr>
                      <m:num>
                        <m:r>
                          <m:t xml:space="preserve">м</m:t>
                        </m:r>
                      </m:num>
                      <m:den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7"/>
              <p:cNvSpPr txBox="1"/>
              <p:nvPr/>
            </p:nvSpPr>
            <p:spPr>
              <a:xfrm>
                <a:off x="452520" y="2997360"/>
                <a:ext cx="111276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Text Box 9"/>
          <p:cNvSpPr/>
          <p:nvPr/>
        </p:nvSpPr>
        <p:spPr>
          <a:xfrm>
            <a:off x="468360" y="36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Найти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468360" y="4149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c-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" name="Line 11"/>
          <p:cNvSpPr/>
          <p:nvPr/>
        </p:nvSpPr>
        <p:spPr>
          <a:xfrm>
            <a:off x="2411280" y="549360"/>
            <a:ext cx="0" cy="4392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" name="Line 12"/>
          <p:cNvSpPr/>
          <p:nvPr/>
        </p:nvSpPr>
        <p:spPr>
          <a:xfrm>
            <a:off x="324000" y="3645000"/>
            <a:ext cx="21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3419640" y="47628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8" name="Text Box 14"/>
          <p:cNvSpPr/>
          <p:nvPr/>
        </p:nvSpPr>
        <p:spPr>
          <a:xfrm>
            <a:off x="2484360" y="1268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Епо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Line 15"/>
          <p:cNvSpPr/>
          <p:nvPr/>
        </p:nvSpPr>
        <p:spPr>
          <a:xfrm>
            <a:off x="3780000" y="162864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" name="Text Box 16"/>
          <p:cNvSpPr/>
          <p:nvPr/>
        </p:nvSpPr>
        <p:spPr>
          <a:xfrm>
            <a:off x="4500720" y="1268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Ек+Ас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17"/>
              <p:cNvSpPr txBox="1"/>
              <p:nvPr/>
            </p:nvSpPr>
            <p:spPr>
              <a:xfrm>
                <a:off x="2413080" y="2060640"/>
                <a:ext cx="680220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gh</m:t>
                    </m:r>
                    <m:r>
                      <m:t xml:space="preserve">=</m:t>
                    </m:r>
                    <m:sSup>
                      <m:e>
                        <m:f>
                          <m:num>
                            <m:r>
                              <m:t xml:space="preserve">mυ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gh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18"/>
              <p:cNvSpPr txBox="1"/>
              <p:nvPr/>
            </p:nvSpPr>
            <p:spPr>
              <a:xfrm>
                <a:off x="3400560" y="3297240"/>
                <a:ext cx="335124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9"/>
              <p:cNvSpPr txBox="1"/>
              <p:nvPr/>
            </p:nvSpPr>
            <p:spPr>
              <a:xfrm>
                <a:off x="1920960" y="5013360"/>
                <a:ext cx="655956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Line 20"/>
          <p:cNvSpPr/>
          <p:nvPr/>
        </p:nvSpPr>
        <p:spPr>
          <a:xfrm>
            <a:off x="7667640" y="5950080"/>
            <a:ext cx="863640" cy="0"/>
          </a:xfrm>
          <a:prstGeom prst="line">
            <a:avLst/>
          </a:prstGeom>
          <a:ln w="38160">
            <a:solidFill>
              <a:srgbClr val="dbbd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" name="AutoShape 22"/>
          <p:cNvSpPr/>
          <p:nvPr/>
        </p:nvSpPr>
        <p:spPr>
          <a:xfrm>
            <a:off x="8366040" y="6237360"/>
            <a:ext cx="720720" cy="620640"/>
          </a:xfrm>
          <a:custGeom>
            <a:avLst/>
            <a:gdLst>
              <a:gd name="textAreaLeft" fmla="*/ 39960 w 720720"/>
              <a:gd name="textAreaRight" fmla="*/ 680760 w 720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5081" h="21600">
                <a:moveTo>
                  <a:pt x="0" y="0"/>
                </a:moveTo>
                <a:lnTo>
                  <a:pt x="25081" y="0"/>
                </a:lnTo>
                <a:lnTo>
                  <a:pt x="25081" y="21600"/>
                </a:lnTo>
                <a:lnTo>
                  <a:pt x="0" y="21600"/>
                </a:lnTo>
                <a:close/>
              </a:path>
              <a:path fill="lightenLess" w="25081" h="21600">
                <a:moveTo>
                  <a:pt x="0" y="0"/>
                </a:moveTo>
                <a:lnTo>
                  <a:pt x="25081" y="0"/>
                </a:lnTo>
                <a:lnTo>
                  <a:pt x="23681" y="1400"/>
                </a:lnTo>
                <a:lnTo>
                  <a:pt x="1400" y="1400"/>
                </a:lnTo>
                <a:close/>
              </a:path>
              <a:path fill="darken" w="25081" h="21600">
                <a:moveTo>
                  <a:pt x="25081" y="0"/>
                </a:moveTo>
                <a:lnTo>
                  <a:pt x="25081" y="21600"/>
                </a:lnTo>
                <a:lnTo>
                  <a:pt x="23681" y="20200"/>
                </a:lnTo>
                <a:lnTo>
                  <a:pt x="23681" y="1400"/>
                </a:lnTo>
                <a:close/>
              </a:path>
              <a:path fill="darkenLess" w="25081" h="21600">
                <a:moveTo>
                  <a:pt x="25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1" y="20200"/>
                </a:lnTo>
                <a:close/>
              </a:path>
              <a:path fill="lighten" w="25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1" h="21600">
                <a:moveTo>
                  <a:pt x="5534" y="7493"/>
                </a:moveTo>
                <a:lnTo>
                  <a:pt x="9042" y="7493"/>
                </a:lnTo>
                <a:lnTo>
                  <a:pt x="9042" y="12828"/>
                </a:lnTo>
                <a:cubicBezTo>
                  <a:pt x="9042" y="13751"/>
                  <a:pt x="9842" y="14482"/>
                  <a:pt x="10878" y="14482"/>
                </a:cubicBezTo>
                <a:lnTo>
                  <a:pt x="12541" y="14482"/>
                </a:lnTo>
                <a:cubicBezTo>
                  <a:pt x="13576" y="14482"/>
                  <a:pt x="14377" y="13751"/>
                  <a:pt x="14377" y="12828"/>
                </a:cubicBezTo>
                <a:lnTo>
                  <a:pt x="14377" y="7493"/>
                </a:lnTo>
                <a:lnTo>
                  <a:pt x="12541" y="7493"/>
                </a:lnTo>
                <a:lnTo>
                  <a:pt x="16048" y="3985"/>
                </a:lnTo>
                <a:lnTo>
                  <a:pt x="19721" y="7493"/>
                </a:lnTo>
                <a:lnTo>
                  <a:pt x="17885" y="7493"/>
                </a:lnTo>
                <a:lnTo>
                  <a:pt x="17885" y="12828"/>
                </a:lnTo>
                <a:cubicBezTo>
                  <a:pt x="17885" y="15596"/>
                  <a:pt x="15308" y="18155"/>
                  <a:pt x="12541" y="18155"/>
                </a:cubicBezTo>
                <a:lnTo>
                  <a:pt x="10878" y="18155"/>
                </a:lnTo>
                <a:cubicBezTo>
                  <a:pt x="8110" y="18155"/>
                  <a:pt x="5534" y="15596"/>
                  <a:pt x="5534" y="12828"/>
                </a:cubicBezTo>
                <a:close/>
              </a:path>
            </a:pathLst>
          </a:custGeom>
          <a:solidFill>
            <a:srgbClr val="9151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Управляющая кнопка: домой 1"/>
          <p:cNvSpPr/>
          <p:nvPr/>
        </p:nvSpPr>
        <p:spPr>
          <a:xfrm>
            <a:off x="34920" y="6237360"/>
            <a:ext cx="649440" cy="620640"/>
          </a:xfrm>
          <a:custGeom>
            <a:avLst/>
            <a:gdLst>
              <a:gd name="textAreaLeft" fmla="*/ 39960 w 649440"/>
              <a:gd name="textAreaRight" fmla="*/ 609480 w 6494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602" h="21600">
                <a:moveTo>
                  <a:pt x="0" y="0"/>
                </a:moveTo>
                <a:lnTo>
                  <a:pt x="22602" y="0"/>
                </a:lnTo>
                <a:lnTo>
                  <a:pt x="22602" y="21600"/>
                </a:lnTo>
                <a:lnTo>
                  <a:pt x="0" y="21600"/>
                </a:lnTo>
                <a:close/>
              </a:path>
              <a:path fill="lightenLess" w="22602" h="21600">
                <a:moveTo>
                  <a:pt x="0" y="0"/>
                </a:moveTo>
                <a:lnTo>
                  <a:pt x="22602" y="0"/>
                </a:lnTo>
                <a:lnTo>
                  <a:pt x="21202" y="1400"/>
                </a:lnTo>
                <a:lnTo>
                  <a:pt x="1400" y="1400"/>
                </a:lnTo>
                <a:close/>
              </a:path>
              <a:path fill="darken" w="22602" h="21600">
                <a:moveTo>
                  <a:pt x="22602" y="0"/>
                </a:moveTo>
                <a:lnTo>
                  <a:pt x="22602" y="21600"/>
                </a:lnTo>
                <a:lnTo>
                  <a:pt x="21202" y="20200"/>
                </a:lnTo>
                <a:lnTo>
                  <a:pt x="21202" y="1400"/>
                </a:lnTo>
                <a:close/>
              </a:path>
              <a:path fill="darkenLess" w="22602" h="21600">
                <a:moveTo>
                  <a:pt x="22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2" y="20200"/>
                </a:lnTo>
                <a:close/>
              </a:path>
              <a:path fill="lighten" w="22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2" h="21600">
                <a:moveTo>
                  <a:pt x="11301" y="3837"/>
                </a:moveTo>
                <a:lnTo>
                  <a:pt x="13877" y="6448"/>
                </a:lnTo>
                <a:lnTo>
                  <a:pt x="13877" y="4707"/>
                </a:lnTo>
                <a:lnTo>
                  <a:pt x="15653" y="4707"/>
                </a:lnTo>
                <a:lnTo>
                  <a:pt x="15653" y="8224"/>
                </a:lnTo>
                <a:lnTo>
                  <a:pt x="18264" y="10800"/>
                </a:lnTo>
                <a:lnTo>
                  <a:pt x="16610" y="10800"/>
                </a:lnTo>
                <a:lnTo>
                  <a:pt x="16610" y="17989"/>
                </a:lnTo>
                <a:lnTo>
                  <a:pt x="5992" y="17989"/>
                </a:lnTo>
                <a:lnTo>
                  <a:pt x="5992" y="10800"/>
                </a:lnTo>
                <a:lnTo>
                  <a:pt x="4338" y="10800"/>
                </a:lnTo>
                <a:close/>
              </a:path>
              <a:path fill="darkenLess" w="22602" h="21600">
                <a:moveTo>
                  <a:pt x="13877" y="6448"/>
                </a:moveTo>
                <a:lnTo>
                  <a:pt x="13877" y="4707"/>
                </a:lnTo>
                <a:lnTo>
                  <a:pt x="15653" y="4707"/>
                </a:lnTo>
                <a:lnTo>
                  <a:pt x="15653" y="8224"/>
                </a:lnTo>
                <a:close/>
              </a:path>
              <a:path fill="darkenLess" w="22602" h="21600">
                <a:moveTo>
                  <a:pt x="10378" y="14299"/>
                </a:moveTo>
                <a:lnTo>
                  <a:pt x="12223" y="14299"/>
                </a:lnTo>
                <a:lnTo>
                  <a:pt x="12223" y="17989"/>
                </a:lnTo>
                <a:lnTo>
                  <a:pt x="16610" y="17989"/>
                </a:lnTo>
                <a:lnTo>
                  <a:pt x="16610" y="10800"/>
                </a:lnTo>
                <a:lnTo>
                  <a:pt x="5992" y="10800"/>
                </a:lnTo>
                <a:lnTo>
                  <a:pt x="5992" y="17989"/>
                </a:lnTo>
                <a:lnTo>
                  <a:pt x="10378" y="17989"/>
                </a:lnTo>
                <a:close/>
              </a:path>
            </a:pathLst>
          </a:custGeom>
          <a:solidFill>
            <a:srgbClr val="f8a500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3" dur="5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a5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ahoma"/>
              </a:rPr>
              <a:t>Параграф 30, упр.25 (зад 3, 4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228240"/>
            <a:ext cx="848808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4400" spc="-1" strike="noStrike">
                <a:solidFill>
                  <a:srgbClr val="f8a500"/>
                </a:solidFill>
                <a:latin typeface="Times New Roman"/>
              </a:rPr>
              <a:t>Вопрос 2</a:t>
            </a:r>
            <a:br>
              <a:rPr sz="4400"/>
            </a:b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Какое выражение определяет потенциальную энергию пружины?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   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47640" y="4221000"/>
            <a:ext cx="1800360" cy="64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2c19"/>
                </a:solidFill>
                <a:latin typeface="Arial"/>
              </a:rPr>
              <a:t>а) </a:t>
            </a:r>
            <a:r>
              <a:rPr b="1" lang="en-US" sz="2400" spc="-1" strike="noStrike" u="sng">
                <a:solidFill>
                  <a:srgbClr val="e12c19"/>
                </a:solidFill>
                <a:uFillTx/>
                <a:latin typeface="Arial"/>
              </a:rPr>
              <a:t>mv</a:t>
            </a:r>
            <a:r>
              <a:rPr b="1" lang="en-US" sz="2400" spc="-1" strike="noStrike" u="sng">
                <a:solidFill>
                  <a:srgbClr val="e12c19"/>
                </a:solidFill>
                <a:uFillTx/>
                <a:latin typeface="Arial"/>
                <a:ea typeface="Arial"/>
              </a:rPr>
              <a:t>²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5157720"/>
            <a:ext cx="230328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2c19"/>
                </a:solidFill>
                <a:latin typeface="Arial"/>
              </a:rPr>
              <a:t>б) 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mq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6732720" y="5805360"/>
            <a:ext cx="2158920" cy="64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2c19"/>
                </a:solidFill>
                <a:latin typeface="Arial"/>
              </a:rPr>
              <a:t>в) </a:t>
            </a:r>
            <a:r>
              <a:rPr b="1" lang="en-US" sz="2400" spc="-1" strike="noStrike" u="sng">
                <a:solidFill>
                  <a:srgbClr val="e12c19"/>
                </a:solidFill>
                <a:uFillTx/>
                <a:latin typeface="Arial"/>
              </a:rPr>
              <a:t>kx</a:t>
            </a:r>
            <a:r>
              <a:rPr b="1" lang="en-US" sz="2400" spc="-1" strike="noStrike" u="sng">
                <a:solidFill>
                  <a:srgbClr val="e12c19"/>
                </a:solidFill>
                <a:uFillTx/>
                <a:latin typeface="Arial"/>
                <a:ea typeface="Arial"/>
              </a:rPr>
              <a:t>²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10400" cy="31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a500"/>
                </a:solidFill>
                <a:latin typeface="Times New Roman"/>
              </a:rPr>
              <a:t>Вопрос </a:t>
            </a:r>
            <a:r>
              <a:rPr b="1" lang="en-US" sz="4400" spc="-1" strike="noStrike">
                <a:solidFill>
                  <a:srgbClr val="f8a500"/>
                </a:solidFill>
                <a:latin typeface="Times New Roman"/>
              </a:rPr>
              <a:t>3</a:t>
            </a:r>
            <a:br>
              <a:rPr sz="4400"/>
            </a:br>
            <a:r>
              <a:rPr b="1" lang="ru-RU" sz="4400" spc="-1" strike="noStrike">
                <a:solidFill>
                  <a:srgbClr val="dbbd71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На какой высоте от поверхности Земли тело массой 3 кг имеет потенциальную энергию 60 Дж (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g=10 </a:t>
            </a: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м/с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  <a:ea typeface="Arial"/>
              </a:rPr>
              <a:t>²</a:t>
            </a: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549360"/>
            <a:ext cx="8964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a500"/>
                </a:solidFill>
                <a:latin typeface="Times New Roman"/>
              </a:rPr>
              <a:t>Вопрос 4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Как изменится кинетическая энергия тела  при увеличении его скорости в 3 раза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5800" y="533520"/>
            <a:ext cx="79898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a500"/>
                </a:solidFill>
                <a:latin typeface="Times New Roman"/>
              </a:rPr>
              <a:t>Вопрос 5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Работа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A=F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·Scos</a:t>
            </a:r>
            <a:r>
              <a:rPr b="1" lang="el-GR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α</a:t>
            </a: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 равна нулю, если угол, образованный векторами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F</a:t>
            </a: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 и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3419640" y="1628640"/>
            <a:ext cx="28728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3851280" y="1628640"/>
            <a:ext cx="28728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3933720"/>
            <a:ext cx="331308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a)  0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e12c19"/>
                </a:solidFill>
                <a:latin typeface="Arial"/>
              </a:rPr>
              <a:t>≤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e12c19"/>
                </a:solidFill>
                <a:latin typeface="Arial"/>
              </a:rPr>
              <a:t>α</a:t>
            </a:r>
            <a:r>
              <a:rPr b="1" lang="el-GR" sz="2400" spc="-1" strike="noStrike">
                <a:solidFill>
                  <a:srgbClr val="e12c19"/>
                </a:solidFill>
                <a:latin typeface="Arial"/>
                <a:ea typeface="Arial"/>
              </a:rPr>
              <a:t>≤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90°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2700360" y="4869000"/>
            <a:ext cx="331164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2c19"/>
                </a:solidFill>
                <a:latin typeface="Arial"/>
              </a:rPr>
              <a:t>б)  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90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&lt;</a:t>
            </a:r>
            <a:r>
              <a:rPr b="1" lang="el-GR" sz="2400" spc="-1" strike="noStrike">
                <a:solidFill>
                  <a:srgbClr val="e12c19"/>
                </a:solidFill>
                <a:latin typeface="Arial"/>
              </a:rPr>
              <a:t>α≤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180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5508720" y="5805360"/>
            <a:ext cx="331128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2c19"/>
                </a:solidFill>
                <a:latin typeface="Arial"/>
              </a:rPr>
              <a:t>в) </a:t>
            </a:r>
            <a:r>
              <a:rPr b="1" lang="el-GR" sz="2400" spc="-1" strike="noStrike">
                <a:solidFill>
                  <a:srgbClr val="e12c19"/>
                </a:solidFill>
                <a:latin typeface="Arial"/>
              </a:rPr>
              <a:t>α</a:t>
            </a:r>
            <a:r>
              <a:rPr b="1" lang="ru-RU" sz="2400" spc="-1" strike="noStrike">
                <a:solidFill>
                  <a:srgbClr val="e12c19"/>
                </a:solidFill>
                <a:latin typeface="Arial"/>
              </a:rPr>
              <a:t> = 90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189000"/>
            <a:ext cx="8893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a500"/>
                </a:solidFill>
                <a:latin typeface="Times New Roman"/>
              </a:rPr>
              <a:t>Вопрос </a:t>
            </a:r>
            <a:r>
              <a:rPr b="1" lang="en-US" sz="4400" spc="-1" strike="noStrike">
                <a:solidFill>
                  <a:srgbClr val="f8a5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Автомобиль движется с постоянной скоростью 72 км/ч. Сила тяги автомобиля 1000 Н. Мощность двигателя равна 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260280"/>
            <a:ext cx="889308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a500"/>
                </a:solidFill>
                <a:latin typeface="Times New Roman"/>
              </a:rPr>
              <a:t>Вопрос 7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Работа всех сил, действующих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на тело, при изменении скорости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от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v0 </a:t>
            </a: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до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v</a:t>
            </a: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 равна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1116000" y="4292640"/>
            <a:ext cx="244800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2c19"/>
                </a:solidFill>
                <a:latin typeface="Arial"/>
              </a:rPr>
              <a:t>а)  </a:t>
            </a:r>
            <a:r>
              <a:rPr b="1" lang="en-US" sz="2400" spc="-1" strike="noStrike" u="sng">
                <a:solidFill>
                  <a:srgbClr val="e12c19"/>
                </a:solidFill>
                <a:uFillTx/>
                <a:latin typeface="Arial"/>
              </a:rPr>
              <a:t>mv</a:t>
            </a:r>
            <a:r>
              <a:rPr b="1" lang="en-US" sz="2400" spc="-1" strike="noStrike" u="sng">
                <a:solidFill>
                  <a:srgbClr val="e12c19"/>
                </a:solidFill>
                <a:uFillTx/>
                <a:latin typeface="Arial"/>
                <a:ea typeface="Arial"/>
              </a:rPr>
              <a:t>²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 _ </a:t>
            </a:r>
            <a:r>
              <a:rPr b="1" lang="en-US" sz="2400" spc="-1" strike="noStrike" u="sng">
                <a:solidFill>
                  <a:srgbClr val="e12c19"/>
                </a:solidFill>
                <a:uFillTx/>
                <a:latin typeface="Arial"/>
                <a:ea typeface="Arial"/>
              </a:rPr>
              <a:t>mv</a:t>
            </a:r>
            <a:r>
              <a:rPr b="1" lang="en-US" sz="1000" spc="-1" strike="noStrike" u="sng">
                <a:solidFill>
                  <a:srgbClr val="e12c19"/>
                </a:solidFill>
                <a:uFillTx/>
                <a:latin typeface="Arial"/>
                <a:ea typeface="Arial"/>
              </a:rPr>
              <a:t>0</a:t>
            </a:r>
            <a:r>
              <a:rPr b="1" lang="en-US" sz="2400" spc="-1" strike="noStrike" u="sng">
                <a:solidFill>
                  <a:srgbClr val="e12c19"/>
                </a:solidFill>
                <a:uFillTx/>
                <a:latin typeface="Arial"/>
                <a:ea typeface="Arial"/>
              </a:rPr>
              <a:t>²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2c19"/>
                </a:solidFill>
                <a:latin typeface="Arial"/>
                <a:ea typeface="Arial"/>
              </a:rPr>
              <a:t>       </a:t>
            </a:r>
            <a:r>
              <a:rPr b="1" lang="ru-RU" sz="2400" spc="-1" strike="noStrike">
                <a:solidFill>
                  <a:srgbClr val="e12c19"/>
                </a:solidFill>
                <a:latin typeface="Arial"/>
                <a:ea typeface="Arial"/>
              </a:rPr>
              <a:t>2         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3995640" y="5157720"/>
            <a:ext cx="2233800" cy="57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2c19"/>
                </a:solidFill>
                <a:latin typeface="Arial"/>
              </a:rPr>
              <a:t>б)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 m (v - v</a:t>
            </a:r>
            <a:r>
              <a:rPr b="1" lang="en-US" sz="1000" spc="-1" strike="noStrike">
                <a:solidFill>
                  <a:srgbClr val="e12c19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6443640" y="5950080"/>
            <a:ext cx="208908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2c19"/>
                </a:solidFill>
                <a:latin typeface="Arial"/>
              </a:rPr>
              <a:t>в)    </a:t>
            </a:r>
            <a:r>
              <a:rPr b="1" lang="en-US" sz="2400" spc="-1" strike="noStrike" u="sng">
                <a:solidFill>
                  <a:srgbClr val="e12c19"/>
                </a:solidFill>
                <a:uFillTx/>
                <a:latin typeface="Arial"/>
              </a:rPr>
              <a:t>v</a:t>
            </a:r>
            <a:r>
              <a:rPr b="1" lang="en-US" sz="2400" spc="-1" strike="noStrike" u="sng">
                <a:solidFill>
                  <a:srgbClr val="e12c19"/>
                </a:solidFill>
                <a:uFillTx/>
                <a:latin typeface="Arial"/>
                <a:ea typeface="Arial"/>
              </a:rPr>
              <a:t>² - v</a:t>
            </a:r>
            <a:r>
              <a:rPr b="1" lang="en-US" sz="1000" spc="-1" strike="noStrike" u="sng">
                <a:solidFill>
                  <a:srgbClr val="e12c19"/>
                </a:solidFill>
                <a:uFillTx/>
                <a:latin typeface="Arial"/>
                <a:ea typeface="Arial"/>
              </a:rPr>
              <a:t>0</a:t>
            </a:r>
            <a:r>
              <a:rPr b="1" lang="en-US" sz="2400" spc="-1" strike="noStrike" u="sng">
                <a:solidFill>
                  <a:srgbClr val="e12c19"/>
                </a:solidFill>
                <a:uFillTx/>
                <a:latin typeface="Arial"/>
                <a:ea typeface="Arial"/>
              </a:rPr>
              <a:t>²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e12c19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e12c19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5736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8a500"/>
                </a:solidFill>
                <a:latin typeface="Arial"/>
              </a:rPr>
              <a:t>Механическая энергия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47640" y="4437000"/>
            <a:ext cx="58550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Закон сохранения энер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20:34:41Z</dcterms:created>
  <dc:creator>JURA</dc:creator>
  <dc:description/>
  <dc:language>en-US</dc:language>
  <cp:lastModifiedBy>school</cp:lastModifiedBy>
  <dcterms:modified xsi:type="dcterms:W3CDTF">2011-11-17T09:24:04Z</dcterms:modified>
  <cp:revision>30</cp:revision>
  <dc:subject/>
  <dc:title>Механическая энергия</dc:title>
</cp:coreProperties>
</file>