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C748-0D39-40DA-B8F9-290EAB7E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A33B-1C97-427F-B40B-09E81A3A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622-3954-4895-A0A2-F561C596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C143-E25B-416C-9D43-ADFC9A67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4AFE-DD36-403C-9B4C-17592534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CF35-BCD3-4E1C-BE67-1F78743D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2AA4-6CC4-45F8-AC9F-3B26BE9E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7CE1-EB31-4591-ADE0-CD31A738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9629-3947-4E79-9D39-6A9219A4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71EC-6304-46B8-BFFE-7CB9A99F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6574-D5C6-4424-A305-F05FD194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22CC-024A-479C-BAD6-2C73A4F1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D541-9FDD-4AAF-8920-62DF2874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CFE5-A77E-4A2C-924B-01A0ACAF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22BB-45D8-4584-990C-2C2F9877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34F1-30EE-4466-A76F-D24993E4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1EC7-47AE-47DA-A575-3007AA71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672-3BD3-4334-93B7-14EE05E1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A7D0-E006-4A17-BD28-B1599CCA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E9E3-9A2B-4175-9BCA-A88A459B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8DB9-02EA-4B06-986A-43F35E21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762-2593-47A3-A268-3E8CE574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6889-03D0-4E6B-A3FF-344E3BF0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686C-5E83-4766-AEFC-9E878EC5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44EB-F453-4B8E-880B-61296D1A96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3F6C-7282-4823-B456-FE71E80356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howcard Gothic"/>
              </a:rPr>
              <a:t>Презентация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5892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 тему: «Температура тел. Шкалы и приборы измерения температур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Термомет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рмо́метр — прибор для измер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пературы воздуха, почвы, воды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дале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ествует несколько вид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рмометр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идко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хан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лектр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т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аз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176720" cy="4249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"/>
                            </p:stCondLst>
                            <p:childTnLst>
                              <p:par>
                                <p:cTn id="1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Жидкостные термометр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 этих термометрах измеряется относительно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расширение жидкости по сравнению с объемо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резервуара. Основная часть термометриче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жидкости располагается в шарообразном ил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цилиндрическом резервуаре, которы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обственно и является чувствительны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элементом термометра. Резервуар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ообщается с длинным и узким стеклянны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капилляром. На верхнем конце капилляр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имеется расширительная (переливная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камера, которая используется для сбор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термометрической жидкости, если термометр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агревается выше его верхнего предел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измерений. При отсутствии такой камер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капилляр разорвался бы из-за слишком высо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нутреннего давления. На нижнем конц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капилляра нередко предусматривается такое ж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расширение, особенно в том случае, если столбик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жидкости проходит через нулевую точку. Чащ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сего для заполнения используют спирт ил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рту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273560" cy="4392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975"/>
                            </p:stCondLst>
                            <p:childTnLst>
                              <p:par>
                                <p:cTn id="1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Механические термометр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ермометры этого типа также по то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же принципу, что и жидкостные, но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ачестве датчика обычно использу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еталлическая спираль или лента и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биметал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960720" cy="3279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25"/>
                            </p:stCondLst>
                            <p:childTnLst>
                              <p:par>
                                <p:cTn id="1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Электрические термометр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работы электричес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рмометров основан на изменен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противления проводника пр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менении температуры окружающ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е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ектрические термометры боле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широкого диапазона основаны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рмопарах (контакт межд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таллами с раз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ектроотрицательностью создаё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тактную разность потенциалов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висящую от температуры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736800" cy="4680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50"/>
                            </p:stCondLst>
                            <p:childTnLst>
                              <p:par>
                                <p:cTn id="2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птические термометр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птические термометры позволя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егистрировать температуру благодар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зменению уровня светимост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пектра и иных параметров  пр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зменении температу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2727360" cy="4681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975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Газовые термометр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16000" y="1483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Действие основано на зависимости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давления или объёма идеального газа о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температуры. Чаще всего применяю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газовый термометр постоянного объём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который представляет собой заполненны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газом баллон  неизменного объём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оединённый тонкой трубкой 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устройством  для измерения давле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Изменение температуры газа в баллон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опорционально изменению давле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и измерении им температур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учитывают: отклонения свойств газ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заполняющего прибор, от свойст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идеального газа; изменения объёма балло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 изменением температуры; наличие в газ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имесей, особенно конденсирующихся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орбцию и десорбцию газа стенкам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баллона; диффузию газа сквозь стенки, 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также распределение температуры вдол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оединительной труб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248000" cy="4535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00"/>
                            </p:stCondLst>
                            <p:childTnLst>
                              <p:par>
                                <p:cTn id="2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Термопа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84720" y="1483920"/>
            <a:ext cx="4535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ва провода из разных металлов, спаянны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одной точке. При соединении дву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зных металлов, у которых разная работ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ыхода , возникает нескомпенсированны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ток электронов с одного металла 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ругой. Первый проводник начина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аряжаться положительно, второй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трицательно. Возникшее электрическ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ле затрудняет перенос электронов из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еталла с более низкой работой выхода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пособствует переносу электронов из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ругого металла. Потоки уравновешиваютс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ок прекращается, что естественно дл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езамкнутой цепи. Проводники находятся под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зными потенциалами и эту разно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тенциалов (напряжение) легко измерить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пряжение измеряется либо милливольтметром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сле чего по специальной таблице находя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ответствующую температуру либо использую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боры КСП3, КСП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827160" cy="4608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00"/>
                            </p:stCondLst>
                            <p:childTnLst>
                              <p:par>
                                <p:cTn id="2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птический пирометр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бор для беcконтактного измер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мпературы тел. Принцип действ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нован на измерении мощности теплов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злучения объекта измер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еимущественно в диапазона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нфракрасного излучения и видим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вета. Термин оптический применяют к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лассу приборов для бесконтакт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змерения температуры тел, нагреты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ыше 600 °C. При более низк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мпературах слишком велик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грешность, так как излучение н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бсолютно чёрного тела включает в себ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тражённое излучение окружающей сред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бычно используется для измер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мпературы при выплавке металлов 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ечах и домн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00000" y="1600200"/>
            <a:ext cx="3240360" cy="4530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975"/>
                            </p:stCondLst>
                            <p:childTnLst>
                              <p:par>
                                <p:cTn id="2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Терморезистор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олупроводниковый резистор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электрическое сопротивление котор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ущественно убывает или возрастает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остом температуры. Для терморезистор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характерны большой температурны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коэффициент сопротивления (ТКС) (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десятки раз превышающий это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коэффициент у металлов), простот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устройства, способность работать 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азличных климатических условиях пр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значительных механических нагрузках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табильность характеристик во времен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Терморезистор изготовляют в вид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тержней, трубок, дисков, шайб, бусинок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тонких пластинок преимуществен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методами порошковой металлургии; 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азмеры могут варьироваться в пределах о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—10 мкм до 1—2 с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4038480" cy="4537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50"/>
                            </p:stCondLst>
                            <p:childTnLst>
                              <p:par>
                                <p:cTn id="2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Термометр сопротивл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Датчик измерения температуры. Принцип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действия основан на измерени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калиброванного медного или платинов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опротивления. Зависимо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опротивления датчика от температуры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называется градуировка. Наиболе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аспространённые градуировки 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омышленности: 50П, 50М, 100М, 100П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Наиболее точными и стабильными в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ремени являются термометр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опротивления на основе платинов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оволоки или платинового напыления 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керамику. Зависимость от температур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очти линейна и подчиняетс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квадратичному закону при положитель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температуре и уравнению 4 степени пр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отрицательных. Температурный диапазон 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00 +800°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888000" cy="2660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3888000" cy="2311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Температу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Температу́ра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— физическая величин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мерно характеризующа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ходящуюся на одну степен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вободы среднюю кинетическу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энергию частиц макроскопическ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истемы, находящейся в состояни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рмодинамического равновес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Температура с молекулярно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кинетической точки зрени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—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физическая величин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арактеризующая интенсивно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аотического, теплового движ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сей совокупности частиц системы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порциональная средней кинетическ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энергии поступательного движения од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астиц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248000" cy="4105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50"/>
                            </p:stCondLst>
                            <p:childTnLst>
                              <p:par>
                                <p:cTn id="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Температурные шкалы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емпературная шкала Фаренгей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емпературная шкала Реомю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емпературная шкала Цель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емпературная шкала Кельв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854520" cy="4392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5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емпературная шкала Фаренгейт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2920" y="1483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едложена Г. Фаренгейтом в 1724. 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качестве нижней опорной точки (0°F) он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использовал температуру замерз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олевого раствора, самую низку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оспроизводимую температуру в то время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а в качестве верхней точки использовалас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температура тела человека (96°F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Ноль градусов Цельсия — это 32 градус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Фаренгейта, а градус Фаренгейта равен 5/9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градуса Цельс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 настоящее время принято следующе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определение шкалы Фаренгейта: эт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температурная шкала, 1 градус которой (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°F) равен 1/180 разности температу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кипения воды и таяния льда пр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атмосферном давлении, а точка таяния льд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имеет температуру +32 °F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3411720" cy="4824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175"/>
                            </p:stCondLst>
                            <p:childTnLst>
                              <p:par>
                                <p:cTn id="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Температурная шкала Реомюра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316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едложена в 1730 году Р. А. Реомюро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оторый описал изобретённый и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пиртовой термомет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Единица — градус Реомюра (°R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 °R равен 1/80 части температур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нтервала между опорными точками —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емпературой таяния льда (0 °R)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ипения воды (80 °R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настоящее время шкала вышла и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потребления, дольше всего о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охранялась во Франции, на родин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вто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687480" cy="4105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150"/>
                            </p:stCondLst>
                            <p:childTnLst>
                              <p:par>
                                <p:cTn id="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Температурная шкала Цельсия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Используется в быту. За 0 принимают точк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замерзания воды, а за 100° точку кип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оды при нормальном атмосферно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давлении. Поскольку температур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замерзания и кипения воды недостаточ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хорошо определена, в настоящее врем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шкалу Цельсия определяют через шкал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Кельвина: градус Цельсия равен кельвину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абсолютный ноль принимается за −273,15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. Шкала Цельсия практически очен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удобна, поскольку вода очен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аспространена на нашей планете и на н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основана наша жизнь. Ноль Цельсия —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особая точка для метеорологии, поскольк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вязана с замерзанием атмосферной вод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Шкала предложена Андерсом Цельсием 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742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6160" y="1600200"/>
            <a:ext cx="3399120" cy="4530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50"/>
                            </p:stCondLst>
                            <p:childTnLst>
                              <p:par>
                                <p:cTn id="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Температурная шкала Кельв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онятие абсолютной температуры был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ведено У. Томсоном (Кельвином), в связ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 чем шкалу абсолютной температур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называют шкалой Кельвина ил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термодинамической температур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шкалой. Единица абсолютной температур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кельвин (К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Абсолютная шкала температур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называется так, потому что мера основ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остояния нижнего предела температуры —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абсолютный ноль, то есть наиболее низка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озможная температура, при которой 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инципе невозможно извлечь из веществ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тепловую энерги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Абсолютный ноль определён как 0 K, чт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иблизительно равно −273.15 °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2977920" cy="4429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125"/>
                            </p:stCondLst>
                            <p:childTnLst>
                              <p:par>
                                <p:cTn id="1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ереходы из разных шка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527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/и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ельв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ьс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ренгей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ельвин (K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 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 С + 273,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 (F + 459,67) / 1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ьсий (° 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 K − 273,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 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 (F − 32) / 1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ренгейт (°F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 K · 1,8 − 459,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 C · 1,8 + 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 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newsflash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риборы для измерения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ермоме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ермопа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птический пироме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ерморезис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ермометр сопроти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171680" cy="3889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975"/>
                            </p:stCondLst>
                            <p:childTnLst>
                              <p:par>
                                <p:cTn id="1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3:24:52Z</dcterms:created>
  <dc:creator>Dasha</dc:creator>
  <dc:description/>
  <dc:language>en-US</dc:language>
  <cp:lastModifiedBy>school</cp:lastModifiedBy>
  <dcterms:modified xsi:type="dcterms:W3CDTF">2015-01-11T12:27:14Z</dcterms:modified>
  <cp:revision>5</cp:revision>
  <dc:subject/>
  <dc:title>Презентация</dc:title>
</cp:coreProperties>
</file>