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11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ADA-2E2C-47AC-84C7-1A3C528F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DA9-8475-4C4D-B0F7-7F49C76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C1B39-8671-416A-9F3A-8806F2B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532ED-41C1-4B32-9C8A-0165C164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FED89-46BA-4D01-A9DD-C303405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76F56-9811-4A73-8330-6D077979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69416-A35F-4CC2-8309-7B75C2A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8F320-4C3C-4B4D-9A12-5BBB815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DF648-1BB0-4E01-A090-B357322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645C-9425-470B-BE72-F17B535D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C7843-B469-407B-AE4E-5E15F031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EE706-6AE7-470A-BCA8-2A0BAF59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139-53B3-4EA0-803E-0EEB5E3B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80BA5-7CB0-406D-86FC-6548851B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85617-EE6C-412C-A824-1D55406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FED00-BA89-4786-B753-A6D8845A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3A1AC-030A-48FB-BE9F-98FFCC27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F820A-AB38-415D-A33F-7992B6C1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64FCB-431C-446F-ADF2-D7D488C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81165-8FD5-43C8-A7F7-18ACD84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F8F5C-A497-4EE0-83EC-6CD8B37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31B75-1FAC-4CD1-A58D-CF4894E2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CA55E-7D77-4491-AC6B-26AD9CBE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58E-6235-4176-87B9-26CF6AFF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13E35-DB2E-44D8-83F8-C80716F9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2A3-F19C-4C67-BFFD-B198CCFD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09E0-0E28-407C-96AF-1AD0CBA2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7CD-3C51-4B99-BEE8-B5366A7A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20AA-73D7-499A-925B-3AB57FD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6F3A-914F-44DC-9E8C-ED2922E3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17C2-56BD-40D7-AD8F-997F476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8D7-9299-4B5B-8D62-A33377C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DD1-9631-412D-8284-A5C499B2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B7D3-DBC6-4214-A5CD-95066162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4D5B-1DD5-47C7-80FE-7E59B88C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0043-F734-4F96-823F-B0559409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78DB-6E0C-421B-8201-180C35EB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126E-85B8-45FD-88F5-17C4DA7E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B07A5-7EEC-4542-BA70-1F06DC9A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A34B6-1FCF-4C2A-93E9-E706B3E7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5B74A-C1B3-4430-B556-8AA93E09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0BDA8-81ED-4D77-9168-878CB33E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DD5D9-F85E-4004-B966-DA0488DA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950-C460-44F4-921A-122A1051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A6C83-3E3A-4FFF-B61B-746FBC0E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DB1DC-8278-4D7C-A61F-53A7901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B8DB4-A8E1-43A5-870D-388FE94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F4AF9-09E4-4ED2-AB70-3C2CD8D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A8860-D993-4093-8E95-0A943B8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816A5-03A4-42A7-894F-F457C2C8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C8350-CA7E-446F-9A82-7412CD22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5A49-C765-48DB-A9D0-AC9B999D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A47B-E16B-4BAA-B984-AFE4D812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7F48-B4C1-4EDB-BA14-34D24A91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5CB-8C62-4D30-A1E8-86C2E0ED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6DAB-2944-4D86-9A05-FB771C41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9962-0455-419B-BF01-8F4BC3DA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C7F7-366B-4F9A-800B-C10B3FCD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19A5-6521-43C7-A0EC-DCE2370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89C8-C35D-40EB-8235-24CACFC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F3E1-DAE1-4D91-AD97-8A0AC65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95DC-8049-4955-BA2D-7C0C8FCE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AB40-EEED-45F3-A938-C1F35330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D489-7CCB-4F05-A3EC-51F5D788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1394-6335-4924-8BAC-A91D6461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DE2-CBC7-4F9A-97B4-0B909E9C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541C-94C9-43D4-930A-73AEA4E5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94EC-74EA-4FC1-8165-649906AC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7222A-0CED-4F50-8133-70BB73ED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4C883-DBB3-4D68-8B36-DA354E7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D385-DDB6-4403-9AC5-1BFFA8D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C69C-B804-4EFC-BFB1-08741764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7EA77-142E-4500-AFCE-49A4BB8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D137-90A0-48BB-810F-95BD264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6C15-A8EA-4D99-A6C0-BFA3163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A78B-4DD6-4C01-8081-DF5BDC15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B34-2D44-49ED-AA4E-E2D9B74E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E75E6-A09A-484F-8B25-EE3A8760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0E6F-E20D-4E96-9E54-334D66BB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5EC5F-03CA-4910-83E4-31BE0D49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ACEE-64AA-49AB-91D9-0DD8177F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DE7A7-8AF5-4914-9D8F-6878B8EE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F4F4C-7130-4336-BC0C-21A68A9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CD69C-6360-4DF8-AF50-B13F5F6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A4240-848B-421E-9A86-1B09018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8E0D-7D72-4AD0-AF82-690D464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B6CCE-7487-4B5E-8E24-C889E60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183-6FDD-42D0-A999-01B9A5C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4649-4711-485F-A8FA-16CC1305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1522-8D02-42E8-8223-64959B16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40DD8-7A68-474C-8617-A1D4260F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0288F-E695-4722-9B83-B48A3FB0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31F19-0429-4976-9394-FA765012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1AE5B-4DA4-4A42-AA6D-5F5C5B3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A1FF2-2603-431C-B8AA-8E818B23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ED3DE7-B31A-4EC0-92CE-0EB32A8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C43D9-45EA-443E-A211-81247180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4A985-A408-4371-BDEB-FBA81035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07F-97F5-4FA8-98DF-201B4C6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3BAD4-215F-46F8-BEDC-07D5CB6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002B9-8ACC-480C-9C17-4B67495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54C0CE-2A72-4C30-B654-686FD8B5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C3CC0-96BB-4677-B336-C16FCA8A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8E37D-D667-4C9F-9DF7-891674B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F36F-39D1-486C-BB93-88AF4FE8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2F62A-5B98-4F7B-93FD-51CB4220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161F-5F01-43CE-8E21-013BE624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6B47-92A1-4F74-82C2-CCF605AE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8B0A5-C698-4C1D-B73F-59AE7E5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FDD-5B76-4E69-92B7-F973383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999C-1F9E-4E31-A18E-3EF307E8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C2493-31AC-4406-A822-35B1F5A7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D15C-A4EA-4875-8E85-5A2246E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08656-B9CA-4A4B-89E1-F051E27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801E6-2503-4FF6-B7CC-75A623C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ACA38-6C0B-49DF-9C1D-1C3D6F88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1D1D4-455B-46B2-8A15-61209F77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B6EFB-C4F9-42E4-9EEF-C8C9239B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FAEB2-5560-41D2-9AAD-E2112BC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69276-6A9D-4131-8750-48F8FD74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12C-7357-4820-9F89-1D347042C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9D13-824F-4B6D-B205-3F8C9E90F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A32-6666-4E34-8337-9CABB22AFD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7513-8726-48A7-A3EB-C80026EF4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DA6-A6E6-4F82-9E27-53EF872AED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98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0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B42E-01EF-45A4-903E-84A2D3C3FB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5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5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5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63C-70BB-4E07-B81D-BE1D7C9C3E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B757-1FAC-4A3B-BAB0-9581E7C92B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1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E6A-BA06-43FF-AA7E-A21909DA86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6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1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273-451C-4FA0-B24B-2D878C4A7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file:///../../../../../Program%20Files/Physicon/Open%20Physics%202.6.%20Part%202/content/models/rlc.html" TargetMode="External"/><Relationship Id="rId7" Type="http://schemas.openxmlformats.org/officeDocument/2006/relationships/image" Target="../media/image8.jpeg"/><Relationship Id="rId8" Type="http://schemas.openxmlformats.org/officeDocument/2006/relationships/hyperlink" Target="file:///../../../../../Program%20Files/Physicon/Open%20Physics%202.6.%20Part%202/content/models/rlc.html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35280" y="907920"/>
            <a:ext cx="7053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Урок – повторение по теме :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126880" y="2349360"/>
            <a:ext cx="701676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 Электромагнитные колебан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443640" y="4724280"/>
            <a:ext cx="2400480" cy="15973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305080" cy="19098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3419640" y="4797360"/>
            <a:ext cx="23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такое  электромагнитные колебания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Электромагнитным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колебаниями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зываются  изменяющиеся во  времени заряда, силы тока и напряжения   в цеп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2371680" cy="23716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rcRect l="0" t="0" r="67641" b="0"/>
          <a:stretch/>
        </p:blipFill>
        <p:spPr>
          <a:xfrm>
            <a:off x="4572000" y="1557360"/>
            <a:ext cx="41767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6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5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41440" y="-9857520"/>
            <a:ext cx="69840" cy="22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258920" y="620640"/>
            <a:ext cx="6697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колебаний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5"/>
          <a:srcRect l="62132" t="6677" r="3517" b="6677"/>
          <a:stretch/>
        </p:blipFill>
        <p:spPr>
          <a:xfrm>
            <a:off x="6732720" y="3429000"/>
            <a:ext cx="2023920" cy="3095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>
            <a:hlinkClick r:id="rId6"/>
          </p:cNvPr>
          <p:cNvPicPr/>
          <p:nvPr/>
        </p:nvPicPr>
        <p:blipFill>
          <a:blip r:embed="rId7"/>
          <a:srcRect l="37948" t="3487" r="2041" b="46165"/>
          <a:stretch/>
        </p:blipFill>
        <p:spPr>
          <a:xfrm>
            <a:off x="755640" y="4076640"/>
            <a:ext cx="3672000" cy="20876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>
            <a:hlinkClick r:id="rId8"/>
          </p:cNvPr>
          <p:cNvPicPr/>
          <p:nvPr/>
        </p:nvPicPr>
        <p:blipFill>
          <a:blip r:embed="rId9"/>
          <a:srcRect l="2750" t="2580" r="65133" b="44407"/>
          <a:stretch/>
        </p:blipFill>
        <p:spPr>
          <a:xfrm>
            <a:off x="2843280" y="189000"/>
            <a:ext cx="206064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5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вободные колебания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лектрических цепях, так же как и в механических системах, таких как груз на пружине или маятник, могут возникать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вободные колеба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стейшей электрической системой, способной совершать свободные колебания, является колебательный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RLC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конту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52960" cy="4464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ынужденные колебания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цессы, возникающие в электрических цепях под действием внешнего периодического источника тока, называются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вынужденными колебаниями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нужденные колебания, в отличие от собственных колебаний в электрических цепях, являются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езатухающи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Внешний источник периодического воздействия обеспечивает приток энергии к системе и не дает колебаниям затухать, несмотря на наличие неизбежных потер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4179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Майкл Фарадей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Английск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зик и химик основоположник науки об электромагнетиз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Главное достиж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 предсказал идею о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овани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99ff"/>
                </a:solidFill>
                <a:latin typeface="Arial"/>
              </a:rPr>
              <a:t>электрических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99ff"/>
                </a:solidFill>
                <a:latin typeface="Arial"/>
              </a:rPr>
              <a:t>магнитных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250960" y="1981080"/>
            <a:ext cx="343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22.IX.1791–25.VIII.186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270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-458748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9080" y="4794120"/>
            <a:ext cx="4190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843280" y="765000"/>
            <a:ext cx="5589360" cy="47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РЕВРАЩЕНИЕ ЭНЕРГ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В КОЛЕБАТЕЛЬН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НТУ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0" y="404640"/>
            <a:ext cx="1584000" cy="5043240"/>
            <a:chOff x="0" y="404640"/>
            <a:chExt cx="1584000" cy="5043240"/>
          </a:xfrm>
        </p:grpSpPr>
        <p:sp>
          <p:nvSpPr>
            <p:cNvPr id="546" name=""/>
            <p:cNvSpPr/>
            <p:nvPr/>
          </p:nvSpPr>
          <p:spPr>
            <a:xfrm flipH="1">
              <a:off x="964080" y="1949400"/>
              <a:ext cx="619920" cy="1717200"/>
            </a:xfrm>
            <a:custGeom>
              <a:avLst/>
              <a:gdLst/>
              <a:ahLst/>
              <a:rect l="l" t="t" r="r" b="b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00120" y="1873080"/>
              <a:ext cx="430920" cy="1643040"/>
            </a:xfrm>
            <a:custGeom>
              <a:avLst/>
              <a:gdLst/>
              <a:ahLst/>
              <a:rect l="l" t="t" r="r" b="b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d8b1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d8b1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60240" y="3303000"/>
              <a:ext cx="251640" cy="2144880"/>
            </a:xfrm>
            <a:custGeom>
              <a:avLst/>
              <a:gdLst/>
              <a:ahLst/>
              <a:rect l="l" t="t" r="r" b="b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872640" y="3306600"/>
              <a:ext cx="392760" cy="2139480"/>
            </a:xfrm>
            <a:custGeom>
              <a:avLst/>
              <a:gdLst/>
              <a:ahLst/>
              <a:rect l="l" t="t" r="r" b="b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996633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85440" y="640800"/>
              <a:ext cx="505440" cy="1117080"/>
            </a:xfrm>
            <a:custGeom>
              <a:avLst/>
              <a:gdLst/>
              <a:ahLst/>
              <a:rect l="l" t="t" r="r" b="b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gradFill rotWithShape="0">
              <a:gsLst>
                <a:gs pos="0">
                  <a:srgbClr val="ffffb7">
                    <a:alpha val="50196"/>
                  </a:srgbClr>
                </a:gs>
                <a:gs pos="50000">
                  <a:srgbClr val="ffffff"/>
                </a:gs>
                <a:gs pos="100000">
                  <a:srgbClr val="ffffb7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0" y="404640"/>
              <a:ext cx="1005840" cy="1867320"/>
            </a:xfrm>
            <a:custGeom>
              <a:avLst/>
              <a:gdLst/>
              <a:ahLst/>
              <a:rect l="l" t="t" r="r" b="b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268360" y="2492280"/>
            <a:ext cx="346248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24360" y="2492280"/>
            <a:ext cx="0" cy="64944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274640" y="2903760"/>
            <a:ext cx="1604520" cy="2447280"/>
            <a:chOff x="4274640" y="2903760"/>
            <a:chExt cx="1604520" cy="2447280"/>
          </a:xfrm>
        </p:grpSpPr>
        <p:sp>
          <p:nvSpPr>
            <p:cNvPr id="555" name=""/>
            <p:cNvSpPr/>
            <p:nvPr/>
          </p:nvSpPr>
          <p:spPr>
            <a:xfrm flipH="1" rot="10701600">
              <a:off x="4287600" y="2926080"/>
              <a:ext cx="1577880" cy="9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71" y="4787"/>
                  </a:moveTo>
                  <a:arcTo wR="10800" hR="10800" stAng="-2029896" swAng="38832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71" y="4787"/>
                  </a:moveTo>
                  <a:arcTo wR="10800" hR="10800" stAng="-2029896" swAng="3883230"/>
                </a:path>
              </a:pathLst>
            </a:cu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10701600">
              <a:off x="4286880" y="3416040"/>
              <a:ext cx="157788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71" y="4787"/>
                  </a:moveTo>
                  <a:arcTo wR="10800" hR="10800" stAng="-2029896" swAng="39638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71" y="4787"/>
                  </a:moveTo>
                  <a:arcTo wR="10800" hR="10800" stAng="-2029896" swAng="3963814"/>
                </a:path>
              </a:pathLst>
            </a:cu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rot="10701600">
              <a:off x="4286880" y="3904920"/>
              <a:ext cx="157788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71" y="4787"/>
                  </a:moveTo>
                  <a:arcTo wR="10800" hR="10800" stAng="-2029896" swAng="39638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71" y="4787"/>
                  </a:moveTo>
                  <a:arcTo wR="10800" hR="10800" stAng="-2029896" swAng="3963814"/>
                </a:path>
              </a:pathLst>
            </a:cu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10701600">
              <a:off x="4286880" y="4398120"/>
              <a:ext cx="157788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71" y="4787"/>
                  </a:moveTo>
                  <a:arcTo wR="10800" hR="10800" stAng="-2029896" swAng="39638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71" y="4787"/>
                  </a:moveTo>
                  <a:arcTo wR="10800" hR="10800" stAng="-2029896" swAng="3963814"/>
                </a:path>
              </a:pathLst>
            </a:cu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754600" y="5110200"/>
            <a:ext cx="0" cy="6238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92120" y="5734080"/>
            <a:ext cx="346212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2268000" y="4149360"/>
            <a:ext cx="24120" cy="15843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08000" y="4149720"/>
            <a:ext cx="7146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08000" y="2492280"/>
            <a:ext cx="714600" cy="1441440"/>
            <a:chOff x="1908000" y="2492280"/>
            <a:chExt cx="714600" cy="1441440"/>
          </a:xfrm>
        </p:grpSpPr>
        <p:sp>
          <p:nvSpPr>
            <p:cNvPr id="564" name=""/>
            <p:cNvSpPr/>
            <p:nvPr/>
          </p:nvSpPr>
          <p:spPr>
            <a:xfrm>
              <a:off x="1908000" y="3933720"/>
              <a:ext cx="714600" cy="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8360" y="2492280"/>
              <a:ext cx="24120" cy="1441440"/>
            </a:xfrm>
            <a:prstGeom prst="line">
              <a:avLst/>
            </a:prstGeom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 txBox="1"/>
          <p:nvPr/>
        </p:nvSpPr>
        <p:spPr>
          <a:xfrm>
            <a:off x="6372360" y="494172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L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32000" y="3860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80808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84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6:48:46Z</dcterms:created>
  <dc:creator>FuckYouBill</dc:creator>
  <dc:description/>
  <dc:language>en-US</dc:language>
  <cp:lastModifiedBy>FuckYouBill</cp:lastModifiedBy>
  <dcterms:modified xsi:type="dcterms:W3CDTF">2008-10-15T17:19:33Z</dcterms:modified>
  <cp:revision>8</cp:revision>
  <dc:subject/>
  <dc:title>Урок – повторение по теме : </dc:title>
</cp:coreProperties>
</file>